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E10-1D97-435C-A5A2-1CFE57A5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BEC-B494-41A2-8038-C1D8B0EF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5AF-3135-43A5-B5E9-DDD63AE3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917-D82F-4711-8E13-9039BB75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650-6CA6-4D2A-8EC6-BA3B298F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646-27F5-4AED-AA02-9D071805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700-89BD-4A2E-A9CD-C8ED68AD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A4B-7CF7-4485-80E1-FDB54CDF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18C-DF40-41AB-86A7-1C5488DA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368-9AE5-469A-BDD4-CFA7334B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9A7-8F67-4F34-8E96-C1822281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97B-2632-4E56-8C22-37E03F3D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DDB9-E038-4DFB-B1D2-75FD3E21C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</a:t>
            </a:r>
            <a:br>
              <a:rPr sz="4400"/>
            </a:b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Work </a:t>
            </a:r>
            <a:r>
              <a:rPr b="0" i="1" lang="en-US" sz="3000" spc="-1" strike="noStrike" u="sng">
                <a:solidFill>
                  <a:srgbClr val="009999"/>
                </a:solidFill>
                <a:uFillTx/>
                <a:latin typeface="Arial"/>
              </a:rPr>
              <a:t>silently</a:t>
            </a: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 = earn 5 poin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1337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do questions 1-2 until the dotted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-228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ntence is complete if it h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a verb – explains the action or state of being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a subject – what/whom the sentence is about (noun or pronou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t’s a complete thought (you’re not left asking a ques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8001000" cy="198144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1 –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bo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an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drive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2 –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rit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 looking for verbs and subjects on your handou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09480"/>
            <a:ext cx="952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o figure out if something is a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FRAGMENT or a COMPLETE SENTENCE, we must ask ourselv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362320"/>
            <a:ext cx="853416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Does it have 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Does it hav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it a complete though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If ALL answers are YES = a complete sent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If any answers are NO = a fragmen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daily exercise tomorrow with the bottom question answered --- in detail and thoughtful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ey kill Si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notice about the description on the top of 153 about HOW they killed hi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Golding choose for SIMON to be the one to die?  What might this symboli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03:48:45Z</dcterms:created>
  <dc:creator>Carolynn</dc:creator>
  <dc:description/>
  <dc:language>en-US</dc:language>
  <cp:lastModifiedBy>Carolynn</cp:lastModifiedBy>
  <dcterms:modified xsi:type="dcterms:W3CDTF">2010-04-26T20:39:47Z</dcterms:modified>
  <cp:revision>12</cp:revision>
  <dc:subject/>
  <dc:title>WRITE Now:  (1) Take out a piece of paper to take notes on.  Label it with the date (1/29).  (2) The paragraph below is TERRIBLE.  Find the obvious errors and write corrections in your notes.  (There may be more than one way to correct an error.) </dc:title>
</cp:coreProperties>
</file>